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9EF9-14DE-49C7-95D2-775B78FE5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09AA-3EF3-4005-B389-A03DC364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ACF5-6F24-4262-8570-7C89D23B0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5B79-7FF3-49EC-A10C-AA5C1B7A6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EB36-8756-44B7-942B-4C5B7232B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D8F6-3FE7-4FBB-A998-B3AAA7F7F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194F-46D7-44D3-BC97-095B7C9B5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572D-ACD3-4BE2-AF5E-98F5FBB97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A0C4-B904-4B47-82AC-012275315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DA37-C996-407E-B58C-A6DBACFB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5EC1-62DF-45E1-8432-9C5DCB81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802B-4241-4877-A4FA-20448EB7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B263D-015D-4F85-9273-41F894C7F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05320" y="1905120"/>
            <a:ext cx="2743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I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6172200" y="2438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700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352680" y="762120"/>
            <a:ext cx="2743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I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71440" y="761760"/>
            <a:ext cx="12193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05120" y="2143080"/>
            <a:ext cx="4800600" cy="4168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5867280" y="1143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00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352680" y="762120"/>
            <a:ext cx="2743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I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971440" y="761760"/>
            <a:ext cx="12193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6172200" cy="4640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6095880" y="1219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3000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352680" y="762120"/>
            <a:ext cx="2743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I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971440" y="761760"/>
            <a:ext cx="12193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828800" y="1905120"/>
            <a:ext cx="5257440" cy="4743000"/>
            <a:chOff x="1828800" y="1905120"/>
            <a:chExt cx="5257440" cy="4743000"/>
          </a:xfrm>
        </p:grpSpPr>
        <p:sp>
          <p:nvSpPr>
            <p:cNvPr id="54" name="Puzzle3"/>
            <p:cNvSpPr/>
            <p:nvPr/>
          </p:nvSpPr>
          <p:spPr>
            <a:xfrm>
              <a:off x="4389120" y="1905120"/>
              <a:ext cx="2066400" cy="252072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Puzzle2"/>
            <p:cNvSpPr/>
            <p:nvPr/>
          </p:nvSpPr>
          <p:spPr>
            <a:xfrm>
              <a:off x="3787920" y="3741120"/>
              <a:ext cx="3298320" cy="229572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Puzzle4"/>
            <p:cNvSpPr/>
            <p:nvPr/>
          </p:nvSpPr>
          <p:spPr>
            <a:xfrm>
              <a:off x="2511360" y="3713040"/>
              <a:ext cx="1988640" cy="293508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Puzzle1"/>
            <p:cNvSpPr/>
            <p:nvPr/>
          </p:nvSpPr>
          <p:spPr>
            <a:xfrm>
              <a:off x="1828800" y="2667600"/>
              <a:ext cx="3339360" cy="174960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6172200" y="1143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3000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352680" y="762120"/>
            <a:ext cx="2743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I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971440" y="761760"/>
            <a:ext cx="12193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86000" y="2362320"/>
            <a:ext cx="4095720" cy="3894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5943600" y="1295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3000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352680" y="762120"/>
            <a:ext cx="2743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I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440" y="761760"/>
            <a:ext cx="12193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525760" y="1981080"/>
            <a:ext cx="3510000" cy="4608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6248520" y="1143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3000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I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6400800" y="609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00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8000"/>
                            </p:stCondLst>
                            <p:childTnLst>
                              <p:par>
                                <p:cTn id="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" dur="17000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3T22:30:25Z</dcterms:created>
  <dc:creator>cdoty</dc:creator>
  <dc:description/>
  <dc:language>en-US</dc:language>
  <cp:lastModifiedBy>rcipolla</cp:lastModifiedBy>
  <dcterms:modified xsi:type="dcterms:W3CDTF">2009-03-10T19:32:38Z</dcterms:modified>
  <cp:revision>7</cp:revision>
  <dc:subject/>
  <dc:title>Slide 1</dc:title>
</cp:coreProperties>
</file>